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B7E-F1B1-45E4-A3E6-526CEB83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023-CA8A-4EE7-A7C5-48D11CA8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2EB-2195-4ED2-98EC-899ACD88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B82-6009-4DDF-A6AC-E3713B9D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E39-FE12-45D2-B0AF-9075B791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E9D7-88C1-4D66-A1DB-B0DAAC9D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461-E6C3-49B0-83EB-D71E4028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41A-6CF6-41F3-806F-EA23F57B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3C7-C269-4AFF-A569-0E7BB1B5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663-00FB-4622-94D8-0A322B3A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485-4E9F-484B-8136-EF8DE15F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CF5-FC40-420B-BE24-D6B8CB76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DBD4-DDEE-4CE5-A933-7792AA7E5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30 year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den Gets Invol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C Power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nd/Lithuania on dec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of the Bal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stav I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w expansion into mainland Europe- Prussian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s in the Battle of Lu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des gain substantial swathes of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y of Westphal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What’s the Big De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e- w/all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lomacy previously bi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vereig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Toleration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E lost- still in existence but w/limited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ndenburg (who?) g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gains Alsace- root for lots of figh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n also gains- Baltic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- In significant dec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tch gain independence (took 80 YRS!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.C. Church lost 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astating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Killed- “Plague Like” ¼ to 1/3 dead—some areas…hig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s tend to be Germanic and Boh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lidation? Sort of—350 autonomous areas-&gt;about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owerment of local nobles and princes, intro&amp;exp. serf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benefit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mid 17C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(for future discussion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de followed by the Sun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ugal returns as separat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itan Uprising and a whole lot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ine HRE-&gt; Itchings of Prussia and Brandenburg-&gt; A Power to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sterdam- Economic Power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n- Political Power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 - Emerging from Cha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World Col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www.laurenhasten.com/Europe_1600.jpg"/>
          <p:cNvPicPr/>
          <p:nvPr/>
        </p:nvPicPr>
        <p:blipFill>
          <a:blip r:embed="rId1"/>
          <a:stretch/>
        </p:blipFill>
        <p:spPr>
          <a:xfrm>
            <a:off x="1981080" y="2438280"/>
            <a:ext cx="515628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3213000" y="19051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1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shurms.files.wordpress.com/2011/01/holy_roman_empire_1648.png"/>
          <p:cNvPicPr/>
          <p:nvPr/>
        </p:nvPicPr>
        <p:blipFill>
          <a:blip r:embed="rId2"/>
          <a:stretch/>
        </p:blipFill>
        <p:spPr>
          <a:xfrm>
            <a:off x="84240" y="-182520"/>
            <a:ext cx="925344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yers (Every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 England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E (Bohemia)--that’s where it 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sburgs- Catholic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 League of German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/Portugal- United under Philip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enestration- Pha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46040" y="1195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E Seven El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Catholic, Three Protestant (2 of whom were Calvinists) Peace of Augs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duke Ferdinand (Habsburg) as King of Bohemia (Habsburg’s gained Hungary and Bohemia in 16C) limits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liation-&gt;Protestants toss out Catholic leaders from window-&gt;no one di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hemians name their own King (Frederi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cache.virtualtourist.com/4/3209237-Habsburg_Royal_Palace_Prague.jpg"/>
          <p:cNvPicPr/>
          <p:nvPr/>
        </p:nvPicPr>
        <p:blipFill>
          <a:blip r:embed="rId1"/>
          <a:stretch/>
        </p:blipFill>
        <p:spPr>
          <a:xfrm>
            <a:off x="6705720" y="-79200"/>
            <a:ext cx="2286000" cy="1707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www.ariatours.com/Websites/araitours/Images/misc%20Tour%20Pix/Prague_castle.jpg"/>
          <p:cNvPicPr/>
          <p:nvPr/>
        </p:nvPicPr>
        <p:blipFill>
          <a:blip r:embed="rId2"/>
          <a:stretch/>
        </p:blipFill>
        <p:spPr>
          <a:xfrm>
            <a:off x="84240" y="4952880"/>
            <a:ext cx="292572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http://www.isap.org/2004/Workshop-Prague/defenestration.jpg"/>
          <p:cNvPicPr/>
          <p:nvPr/>
        </p:nvPicPr>
        <p:blipFill>
          <a:blip r:embed="rId3"/>
          <a:stretch/>
        </p:blipFill>
        <p:spPr>
          <a:xfrm>
            <a:off x="84240" y="31680"/>
            <a:ext cx="167004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national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dinand gets Philip IV (Spain) help—remember their both Habsurgs and both ardent Catholic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lenstein- lapsed Protestant helps Ferdinand defeat Bohemians - White Mountain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s Crush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ot very great Dane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se II 1625-1629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seatic League in decline- focus is more south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 IV takes the mantle for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a territory w/in 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mark’s little help- a troop of English and Catholic France and Dutch provides some $$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holic France helping Protestant Danes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lenstein defeats Christian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land lost to HRE and Cathol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wede Victory! Phase III 1630-16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tav II- military geni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tic Power, expand power and defend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nd/Lithuania falling apart- power vac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helped defray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’s gain-&gt;Gustav II dies (Battle of Lutzen, near Leipzi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reaty-&gt;Protestant gains, Swedish g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ly its France’s turn (1635-1648)- Phase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allied w/Dutch and Swe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tch??? New comer on the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des and French gain mor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becomes more political less relig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es switch sides, fight and lose to Sw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eror Dies, Richelieu Dies and so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nal Mazarin (France) begins movement towards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ey where’s England in all this stuff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7:52:34Z</dcterms:created>
  <dc:creator>Steve Balazs</dc:creator>
  <dc:description/>
  <dc:language>en-US</dc:language>
  <cp:lastModifiedBy>Local User</cp:lastModifiedBy>
  <dcterms:modified xsi:type="dcterms:W3CDTF">2012-10-15T11:29:00Z</dcterms:modified>
  <cp:revision>16</cp:revision>
  <dc:subject/>
  <dc:title>The 30 year War</dc:title>
</cp:coreProperties>
</file>